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37960" y="763200"/>
            <a:ext cx="5492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dt" idx="2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40C1F-03F8-4E7A-BC0F-4C979F892490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42F-7C43-49BC-A4E5-3766ADD9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ADE-1DE9-435F-9B1D-34CA36C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37A-02F5-40A4-8E9E-BD7C8845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6AB-91F1-40EA-802D-2E658FAD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A334-A5C6-4029-AA97-A2B96405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7260-C711-437F-82C8-4CB66FB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A770-CA34-47F0-983E-EB2439EC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1FDE-8E75-4860-98CE-8F5F93A2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0A99-0BFB-4F21-8522-F0F216BA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A7A-2B37-4E0A-A005-E9D37474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AD2F-5A72-4EB2-8DA0-CCA3AB04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7B7-F4F6-4240-852D-B5BCA9E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B1A6-47B5-4F2B-99CC-5BCA8038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8EED-7E48-4058-9D20-C4CAADB1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0E40-8AF8-4273-B18A-073E9F76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FB00-2626-417E-B6C7-70A92EF5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D2E7-CB29-4952-BCCD-4B3BB3BB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0214-0012-4F65-A91F-454EAA31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820F-C38A-42AE-98F6-2F1FD8C0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5CFE-767C-4AE7-BBCA-551CA79D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7DAE4-E1F0-4734-89C8-70503D75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857B-1797-445F-B140-A592BFC0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0AA-E2CD-4EAA-A434-4CC36DE2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D639-B19C-4D3B-B256-FC5A8B42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3D71B-4FA6-498E-94A2-4C77F99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3D3C9-03D6-4861-977C-CF282AF3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33B0-B4AC-4F0D-8A9B-C6F4ADF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8319-3616-4515-8BD4-9554AC5C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71A4-1923-420C-B254-DA31FCAD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0F5A6-A5FA-48BA-8CC4-15464223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5710E-15FC-40B7-8373-5781EE51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E1DC-0ED4-457A-B5A3-F76A123F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D96D-C489-4DAE-9D4A-029CECBE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D3C-27A5-4DD6-9563-752FD3B6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16F0-2977-4831-8718-17957667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F6B6-D5E9-4561-895B-A623B5BF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B2FE-D347-4A1F-BAFB-C2750616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38A5-2F8F-420C-902C-897BA09F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6B5D-E0F9-4624-8C96-2047FE2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AF3C-5F87-41F6-8F64-7DC7CE55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07C3-4857-4D2B-B476-78C67333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BCF5-C573-4DD9-B2F2-9486D570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2751-E7B0-496D-A84F-1FE0F7A7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9601F-97BD-4BFA-82DC-1B60FC0A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618-694E-4D01-8E9E-F7E528C3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313EB-B577-41A8-BA9F-B399693C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B76B-3A84-4A18-99C4-F5C61C17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26968-5101-4900-B85C-30EDF743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A902B-6434-4036-9851-72094799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F6551-8526-4327-9D0B-31D750FB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31446-56DC-49EB-9EAB-6873680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17A26-0C29-4E27-B995-CB917684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2482D-6F61-4A6C-B53A-68C02B2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1F90-157E-4FED-B1B8-ABFE19EB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0F7E-962C-49C2-9623-097E7FDE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703-732A-4CD1-A8F1-6281463D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3C841-E253-4739-8EEF-475756C0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1D5CB-C52B-4525-8B24-6B725D26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6773-DBC1-4D02-B266-37F5F929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65D3A-073C-4D13-923B-55F905B5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DE180-7849-4093-8E2C-23D32F4D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D8C48-7537-4D55-BFED-55315DCD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2ADC-F0B7-48E6-853F-423C638B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42A5-3593-45BD-AE7A-A1F5C04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BBB88-27B5-460E-9B26-4D78B77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649E5-967B-4329-9FB2-4658681E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E4B-F126-4428-B815-1134E29D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EC666-9682-47C8-BCD4-9667C0AF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53141-6E5D-401B-BC8A-9C32656C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A62D2-DED2-4A1E-963F-ED75F818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99A8D-48E6-4133-B114-F8BDDD0D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BE447-283F-4CDF-A7DE-5BCFB843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CD8FF-D129-46AE-8BD8-45782661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66CC6-DFD4-43C7-B7A4-F0460606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6BA1C-A934-47AE-9A33-7EB04E10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DE1B-5D7D-4042-8B78-F5979BD9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ADB8D-DE02-45A0-AB27-84553CA3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ED3-92FF-4EC4-B89A-94B24988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79AD0-C459-4EC2-9E30-436BE65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5F0B4-B9BC-4BD8-8C8F-939E59DA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A3F46-A8C0-4711-83D6-D741EEB3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B2FF6-D591-482B-A91B-868F21A0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0CC9E-7D23-439F-80EA-AD6A4EBE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5F39E-9DBD-4CD2-8DCC-E0EC5BB5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1A29C-CF67-49ED-ABA6-60B9A12D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4E7AB-DBEF-448E-8083-E75D757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6973F-BA8D-4161-938A-8C95C5E9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5BB9-503B-4FED-9C53-1FB758CD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026-558E-4E35-B242-CCC392F4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714B3-6260-4EED-BF40-6C7D0673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52073-852D-4B59-9EE3-B7B7CE0B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8D354-8041-4F4A-8E0C-A89A523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0403C-C885-4DA8-A336-5E4F0B74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F9256-744D-4510-BB51-29D19E60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D943D-F736-447D-B43A-A667793C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A37D8-D6E5-4D4C-B2FA-BFBF03F5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9DBAA-DB4B-41C1-AF7F-9C0F732270B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6080" y="630072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9640" y="6318000"/>
            <a:ext cx="321912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E8BEA-1498-414E-BB5B-FCBB22D3448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96663-9974-4712-9A8E-D2EB51A4787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DA397-4965-4EE9-B58B-0E4E91CB8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5B0CB-89FC-4EC5-9623-A513C4A9C8B1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AEF28-D620-47E2-9461-85BE937AE451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47640" y="1913040"/>
            <a:ext cx="8672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11360" y="6527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15464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20DF4-A3B2-4968-8630-7876DB767F0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B3C2D-48EC-415D-A5D9-EBC334470087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6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9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9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89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y Alexander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Spanish Presenta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314880" y="2971800"/>
            <a:ext cx="2857320" cy="3114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2920" y="189000"/>
            <a:ext cx="907092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Las cosas que yo har</a:t>
            </a:r>
            <a:r>
              <a:rPr b="1" i="1" lang="es-ES" sz="4400" spc="-1" strike="noStrike">
                <a:solidFill>
                  <a:srgbClr val="ffffff"/>
                </a:solidFill>
                <a:latin typeface="Segoe UI"/>
                <a:ea typeface="Segoe UI"/>
              </a:rPr>
              <a:t>é en el fin de seman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95200" y="1438200"/>
            <a:ext cx="3362400" cy="3591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5194440" y="1374840"/>
            <a:ext cx="394956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7092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Las cosas mi favoritas cuando era un niño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3295800" y="4933800"/>
            <a:ext cx="3333600" cy="2381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685800" y="1143000"/>
            <a:ext cx="2135160" cy="29718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7448400" y="1257480"/>
            <a:ext cx="23814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7092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Las cosas que yo hice en la clase pasado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5715000" y="1828800"/>
            <a:ext cx="2705040" cy="26478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2981160" y="4114800"/>
            <a:ext cx="36482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564000" y="1154160"/>
            <a:ext cx="3751200" cy="2046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269040" y="4114800"/>
            <a:ext cx="2874960" cy="16048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6 cosas haría hoy si no sea en esquel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3629160" y="3657600"/>
            <a:ext cx="3000240" cy="2990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6400800" y="1371600"/>
            <a:ext cx="2514600" cy="2470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685800" y="1828800"/>
            <a:ext cx="3449520" cy="25146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430200" y="4800600"/>
            <a:ext cx="2998800" cy="194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0:01:41Z</dcterms:created>
  <dc:creator>Alexander Davis</dc:creator>
  <dc:description/>
  <dc:language>en-US</dc:language>
  <cp:lastModifiedBy/>
  <cp:revision>1</cp:revision>
  <dc:subject/>
  <dc:title/>
</cp:coreProperties>
</file>